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20D0B-3D55-4192-B7F6-BEA7E55A2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BF08-49FB-4B92-A3A0-33A770A1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BBA33-53E3-434B-8DCE-EE073199D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3E1A9-FE8F-4631-93EF-3535906F1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AA304-7C10-4FFA-ADCA-125E9C413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6329C-7F22-47C6-B5C2-094A91DA4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4A737-C050-453C-905B-25DA1D5AB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A75C0-9255-4988-A916-6ED78D570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007A-37CD-4A22-823A-6E1B64C2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FCD4F-7EED-42CC-A2CD-9D3B50108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7E7CA-37A8-4085-8936-B10BD1AE0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2E2BF-6286-49C9-9598-1243E21DA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5010E-81C5-49C8-88D5-A923D172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7E767-C8F4-4089-8C99-7F8BB8AC6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8CB76-BC54-4F16-BD1A-8032D7161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39DA5-8860-4E9F-ACDC-47D8AEDDB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E787F-8DFF-4D7A-A128-668159EA5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0C1F-6C6C-4D7B-AB18-67509DF0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0522-DBF9-41D6-B72E-86C460FD7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74DC-72E6-4AE7-8356-9C6C54A09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DB3D-DCAE-4F35-A9E7-6910FCFB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51F23-299F-44DB-A880-F9CAC9B3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E0A1-52EB-4C8D-B9E5-3B848998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7EB5-9B1B-4D6E-9B6A-BFA020013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716E-E95A-4D7F-A160-AF27366C68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180D-8BE0-4A0F-B187-B4106C33D2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990360"/>
            <a:ext cx="7772400" cy="9903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w That we have discussed the passage, I thought I would point out that the process you went through is very much like the process you would go through had you encountered this prompt:</a:t>
            </a:r>
            <a:r>
              <a:rPr b="0" lang="en-US" sz="1800" spc="-1" strike="noStrike">
                <a:solidFill>
                  <a:srgbClr val="ccecff"/>
                </a:solidFill>
                <a:latin typeface="Arial"/>
              </a:rPr>
              <a:t> </a:t>
            </a:r>
            <a:endParaRPr b="0" lang="en-US" sz="1800" spc="-1" strike="noStrike">
              <a:solidFill>
                <a:srgbClr val="ccecff"/>
              </a:solidFill>
              <a:latin typeface="Arial"/>
            </a:endParaRPr>
          </a:p>
        </p:txBody>
      </p:sp>
      <p:sp>
        <p:nvSpPr>
          <p:cNvPr id="212" name="PlaceHolder 2"/>
          <p:cNvSpPr>
            <a:spLocks noGrp="1"/>
          </p:cNvSpPr>
          <p:nvPr>
            <p:ph type="subTitle"/>
          </p:nvPr>
        </p:nvSpPr>
        <p:spPr>
          <a:xfrm>
            <a:off x="1066680" y="2133720"/>
            <a:ext cx="6400800" cy="1752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is passage in Conrad’s </a:t>
            </a:r>
            <a:r>
              <a:rPr b="1" i="1" lang="en-US" sz="2400" spc="-1" strike="noStrike">
                <a:solidFill>
                  <a:srgbClr val="ffffff"/>
                </a:solidFill>
                <a:latin typeface="Arial"/>
              </a:rPr>
              <a:t>Heart of Darkness, </a:t>
            </a:r>
            <a:r>
              <a:rPr b="1" lang="en-US" sz="2400" spc="-1" strike="noStrike">
                <a:solidFill>
                  <a:srgbClr val="ffffff"/>
                </a:solidFill>
                <a:latin typeface="Arial"/>
              </a:rPr>
              <a:t>the author provides a description of the Company’s chief accountant.  In a well-organized essay discuss the literary techniques used to characterize the chief accountant.</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course, on the AP exam you would not necessarily be able to reference the rest of the novel, because you may not have read the rest of the entire piece.  However, you still would be engaging in essentially the same task.  When you approach the passage analysis portion of the exam, remember to </a:t>
            </a:r>
            <a:r>
              <a:rPr b="1" lang="en-US" sz="2000" spc="-1" strike="noStrike">
                <a:solidFill>
                  <a:srgbClr val="ffffff"/>
                </a:solidFill>
                <a:latin typeface="Arial"/>
              </a:rPr>
              <a:t>start with details</a:t>
            </a:r>
            <a:r>
              <a:rPr b="0" lang="en-US" sz="2000" spc="-1" strike="noStrike">
                <a:solidFill>
                  <a:srgbClr val="ffffff"/>
                </a:solidFill>
                <a:latin typeface="Arial"/>
              </a:rPr>
              <a:t> and then move to a </a:t>
            </a:r>
            <a:r>
              <a:rPr b="1" lang="en-US" sz="2000" spc="-1" strike="noStrike">
                <a:solidFill>
                  <a:srgbClr val="ffffff"/>
                </a:solidFill>
                <a:latin typeface="Arial"/>
              </a:rPr>
              <a:t>broader, more generalized conclusion.</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work tonight is to write an introductory paragraph that responds to the prompt on the previous p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include a hook, and a </a:t>
            </a:r>
            <a:r>
              <a:rPr b="1" lang="en-US" sz="3200" spc="-1" strike="noStrike">
                <a:solidFill>
                  <a:srgbClr val="ffffff"/>
                </a:solidFill>
                <a:latin typeface="Arial"/>
              </a:rPr>
              <a:t>strong 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5:16:22Z</dcterms:created>
  <dc:creator>Information Systems</dc:creator>
  <dc:description/>
  <dc:language>en-US</dc:language>
  <cp:lastModifiedBy>Information Systems</cp:lastModifiedBy>
  <dcterms:modified xsi:type="dcterms:W3CDTF">2007-01-23T02:42:12Z</dcterms:modified>
  <cp:revision>3</cp:revision>
  <dc:subject/>
  <dc:title>Now That we have discussed the passage, I thought I would point out that the process you went through is very much like the process you would go through had you encountered this prompt: </dc:title>
</cp:coreProperties>
</file>